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7444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5"/>
          </p:nvPr>
        </p:nvSpPr>
        <p:spPr>
          <a:xfrm>
            <a:off x="5950080" y="-360"/>
            <a:ext cx="907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040" y="434304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867160"/>
            <a:ext cx="7016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6495840" y="8867160"/>
            <a:ext cx="361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FA9AF-9C18-4B57-A4AA-696611ADBD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3429000" y="240048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52280" y="4202280"/>
            <a:ext cx="6553440" cy="41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fault - For categories where no configuration has been defi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eneral - For messages still not classif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atabase- Internal database mess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curity - Approval and denial of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nfig - Configuration file parsing and process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solver - DNS resolution, such as the recursive look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in - Zone transfers the server is receiv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out - Zone transfers the server is sen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otify - The NOTIFY protoc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ient - Processing of client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nmatched - Messages with undetermined class or vie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twork - Network op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pdate - Dynamic upd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queries - Query logg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ispatch - Dispatching of incoming packets to modu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nssec - DNSSEC and TSIG protocol process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ame-servers - misconfigurations of remote serve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F0580-D701-48F5-8091-D04EF178B7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69B93-788D-4795-BF9D-2CD1BB86B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585B2-5C00-4CF7-8B55-8B7DE9D4C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6B190-EF1F-40C3-BD4D-2904F13EDB2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3B525-3ECF-47F3-9A1C-74A9D282E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75F15-4CBD-451A-BE9C-1B929F138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0842A-C473-44E9-A376-2DE48786A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C20FB-3BB0-4CDD-B99B-4FFC21452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A30D9-0A91-4A34-9995-9E07639DD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5A6B7-F88D-4BE8-8FD4-47814C107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928D9-0930-418B-AA2F-8BE4DC5F7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5D876-91B1-4F89-8E9B-42725B380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360" y="6553080"/>
            <a:ext cx="10587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5F6FEC58-225A-4DC6-A421-EA29AE75863E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Troubleshootin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8760" y="627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un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the name server is thought to be running, make sure it i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ig @127.0.0.1 version.bind chaos tx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makes the name server do the simplest lookup it can - its version str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also confirms which version you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mmon upgrade error: running the old version, forgetting to 'make install'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56167-3E46-4FCE-92F8-0B8003FEF6F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Data Correc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that the server is the right one (executabl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dig @127.0.0.1 &lt;zone&gt; so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 the serial number to make sure the zone has load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so test changed data in case you forgot to update the serial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we get to secondary servers, this check is made to see if the zone transferr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8E00B-29F2-4E7A-BA2E-9386951B8872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eachable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dig tests fail, its time to test the environment (machine, networ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ping &lt;server machine ip addres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tests basic network flow, common erro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etwork interface not U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uting to machine not corr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ing 'locally' is useful, believe it or no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nfirms that the IP address is correct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81468-BCA9-4B95-865E-5DA14A6ADFD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iste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server does not respond, but machine responds to 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ok at system log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server 53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 will run even if it can't open the network por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s will show th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opens a TCP connection, tests whether port was opened at al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FB44E-2D12-4182-AE71-26E6E1FC4A4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ogging the Right Stuff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voking and examining the log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 files only appear when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example, dnssec logs will start only if 'trusted-keys' are configured and are 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ch category is triggered different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iggers may not be obviou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CBA30-C9F4-4A82-9C0E-49414BE03BB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he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itsel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/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st diagnotic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acket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D5B53-48FD-4588-B764-2076C7FF2CF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t in to name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g to retain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g -c &lt;conf file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in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d &lt;level&gt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ts the debug output volu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level&gt;'s aren't strictly defi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d 3 is popular, -d 99 gives a lot of detai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AA220-0371-4191-BDDA-76EE572AD67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internet grop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ready used in examp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est tool for tes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query and response synta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man d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ig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luded in named distribu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42904-B4A6-4C1F-B9C5-0669BB22ACD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on-BIND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ols to make sure environment is righ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look at server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test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see what messages are on the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5D3F9-0EB8-412D-A37A-82692EAD73F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fconf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Face CONFIGu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config -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the status of interfa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perating system uti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arning, during boot up, ifconfig may configure interfaces after named is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can't open delayed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man ifconf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8E257-8F22-40F7-94CA-889E8B99EDC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y Troubleshoo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Can Go Wrong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zo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3E6ED-991F-41C0-802E-BF3BFF4BFFA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s routing, machine health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 useful if run from another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uld be reason "no servers are reached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be useful on local machine - to see if the interface is proper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A4FE3-4F62-4619-A35C-4DE0DE9D13F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racerout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ping fails, traceroute can help pinpoint where trouble l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problem may be rou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 so - it's not named that needs fixing!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is it important to know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F6E26-E20F-4650-9871-E5CB8CB71B8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cpdump and ethere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confident in the environment, problems with DNS set ups may ex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what is happening in the protocol, use traffic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se tools can help debug "forwarding"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thereal can be retrived fro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http://www.ethereal.com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5A98D-5B4F-45E3-B5C0-88C2AEAD1D86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Logging Facilit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's built-i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 and tracerou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cpdump and etherea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 and 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77F50-45A6-4829-B8B6-7E1E2B2F5CB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Best Way To Handle Mistak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sume You Will Make The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pare The Name Server via Logg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00AF1-5F32-46B9-A5E5-3DE00610C55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Logg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ich messages to se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tegory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ere to send messag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annel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274F9-F351-4AF1-8B68-77C876DB002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ategori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has many catego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rt descriptions of each can be found in the Administrator's Reference Manual (ARM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tion 6.2.10.2, page 49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ategory dnssec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nssec_log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C013C-62DD-4F1B-AB2C-2F68BAAF825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hanne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use syslo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direct output to other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hannel dnssec_log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file "seclog" versions 3 size 10m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time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categor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severit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severity debug 3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E490E-1986-4938-96E9-1046CAF38BE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o You've Set Up A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testing should be don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Basic liven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(right) server running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machine set up correctly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data being serv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the zone load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ve zone transfers happen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CF581-C283-4169-8C78-EF64C3E4BD1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ecking the Configur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named start, use the -g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process in the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ints some diagnostic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does not execute logg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satisfied with named's start, kill the process and start without the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-check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ecks syntax on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EDE28-C150-4A1B-9B16-4261242688E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2:28:22Z</dcterms:created>
  <dc:creator>Edward Lewis</dc:creator>
  <dc:description/>
  <dc:language>en-US</dc:language>
  <cp:lastModifiedBy>Marmaduke Wildebeeste</cp:lastModifiedBy>
  <cp:lastPrinted>2003-02-20T01:50:27Z</cp:lastPrinted>
  <dcterms:modified xsi:type="dcterms:W3CDTF">2003-06-01T20:48:57Z</dcterms:modified>
  <cp:revision>30</cp:revision>
  <dc:subject/>
  <dc:title>PowerPoint Presentation  -  Table of Contents</dc:title>
</cp:coreProperties>
</file>